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1003D-3EBE-4A93-B0BD-B6639E6C39C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498A3-4F34-4801-A622-A1B8E5AEE89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5FC56-602D-4D0C-B10A-D172FE91D9C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AF735-AFC9-45F3-A099-6792E41170E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86C65-416A-40DC-BA7B-28BD7EAED97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E2DF6-8171-4E90-A1BC-5C6DB73E491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38471-08A7-4FE3-9C90-665494A8803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31EFB-0729-48F1-8E1D-FC7F36448FF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C562B-B46B-4A3A-A5AB-2D5CC3DC94A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3D7E9-1CFB-4454-9611-AF168435D2D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A294C-4DB4-4537-8AD9-6698C1C1F70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4CB68-A903-4DB8-9AC4-F7094AD6CAC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0FED-160C-41B7-8076-B0AB33F6D83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E581E-213B-4D40-8F54-ECFFAA66198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08027-5A9F-404A-8CBD-E425D23DE8E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0673A-239C-4470-9F3B-9AB0CF84ABE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DC5C0-C88B-4FD9-B28B-696BF7BD43C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24677-9521-4EFC-88D3-877426A811E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696C3-FB6B-413E-99AE-7912C91AD00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1C5D5-E565-44B2-BF2F-4A02293B53D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83712-935D-44D2-A05C-D780D702320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1D8BB-0814-4925-AEE1-476DC394E85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D120-8503-43BF-B24A-4FBE08226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4F87-D6B2-44CE-B3EB-412F8F37E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0542-E7D0-4123-8734-D6630CC13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D9A3-1BA5-48CA-A5A5-C46B4E4E0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7793E-AF46-47DB-A5E0-5D412C6AF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16296-1F8B-4E31-8739-60A65B019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98DCC-2886-4857-B9F4-2147C1B96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71B4C-C199-4C08-99AA-BA7B9982C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FAA6A-B65F-4B4A-B833-D33BEAA5A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B62DE-05A2-4026-A366-2BF872906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763A1-733B-493B-AD30-A9648D1A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B0DD-24DA-4E09-81E7-11E6F1C08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12C02-F855-4261-A86B-791B7FC9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2ED0C-16E4-4E07-9FE0-70B7F4E4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58D8B-ACF7-42D1-ACFD-CDFA5F995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F84C7-002A-47FE-A630-48C8AE259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9059D-01B1-4BDA-AAD0-B6E139DF8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80C89C-256F-41ED-A80B-176FD266C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070E83-25D6-4CAE-8DAC-241D7B03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C18E0B-4FEC-466C-93E3-A7E533302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10D841-09B7-40C3-BAA4-2546365EF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9D5C82-81E0-4733-9B33-17B2709BB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EE10-F66F-4F62-8EC7-F3859FAAF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8F0027-1F74-400F-8C83-67535576A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C5C5E7-53B9-4C34-8B7F-089CADF0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A3252C-C8E5-42F0-A87B-7E1E33A3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34D984-3FB2-44DD-A13C-8BBB9D4F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DC9F8D-5BD8-4A77-88E1-E60364F7A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D024C1-6E0D-48E9-BEBB-FFD9583F8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2AB1B6-632B-4630-BC28-9A946A59C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EACCE6-E04F-4D88-82DD-2C3FC6D6B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8407F1-B67D-43CF-BDF6-AE87CEDE2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4E844A-C593-4C59-A559-F3597B02E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5451-81A0-43ED-8440-B7F99B15B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2B8D13-A413-4E8B-8633-397F4C976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89C9EC-9F8F-4173-A8CC-0963A6CC7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BB7578-6970-42F9-9820-30C517AC1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F8BA47-926C-428D-B9B5-E853A3D9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FF9101-DB91-44D1-B6EB-7592DBD6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FD3F9D-2A78-4775-A3DA-A7C967CA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1E3341-FCB4-431B-8994-E15451896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A02D7F-6704-4471-91E9-2DCE7855D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5802A1-DF25-4ABF-BC98-68DA6BAF1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BEBC8E-048A-4E56-9E73-7D47E4BCA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425A-92FA-4CFA-BE5F-3C8DFD5AB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74BDF6-EA79-42C1-9086-E515C680E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24A906-0FEF-4A3C-81C2-8BBABB375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4620F6-0F88-421E-A4B0-7B4114B8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CF5C10-0C32-4D6F-B61C-540F74CDF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38BD23-217B-47B2-A838-F24413C8E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736E6E-B9C1-43DF-924A-D69A0299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D6B0C5-F23E-4DD0-9528-BB29A4C8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9969FC-2B1E-4F27-BC9C-A67CA562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0266E5-764A-4B3D-A638-6FE387F3B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6C0F04-3B60-418C-84B4-BF41084FE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31FF-22B3-41A5-A450-876806478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6E0AE5-D206-4CFE-A2D2-F98E3B1E1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633AC-7E7A-485B-BEDE-7EB26BC4B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A28EF-5C7F-49B4-80AB-DAFA06594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0A0EBE-C62D-484D-8626-8F7EE4399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F9E87-C5FE-41B9-8E3D-FF4DDC4DD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F1FED-6736-409E-BED2-C38749A0C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D0C0B-654E-464F-BAB0-273399B17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07955-1246-485E-BE71-CC170016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2BB37-B51F-4D69-A2FE-834957D7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3CEC2-222C-44C2-A329-AAA8B4C3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ABCF-65E1-43FA-8992-C89E63BE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493E5-3250-4C84-A768-A15F91214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8A8DB-3846-4C79-8F5D-9F078041D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7B36D-44BD-44EF-AA84-BB187EEED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FEAE37-93A8-4871-8BDF-27555C25C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EA327F-E2B9-45A2-84D1-D3040E3DB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7670C0-B9D4-454E-9EC3-2FA217A4D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BEEC64-9AF9-4342-83DF-9041AA670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546E5C-3F87-4FC3-B75A-F2A42F37C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D4F5B9-E281-435F-ABB7-DE83FC24D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03B033-36C4-4B21-8E04-FB4C0073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BFA0-58A5-47FB-994D-0EDA2201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80D101-8FFD-4A64-8EAE-38467504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F91099-00D7-47D2-9181-594AE987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88F051-CE2F-44BB-A4CF-E0BA5C277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A05982-C4B3-4B52-B5DA-77EFB061B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02569E-7200-4BAD-8C87-65C151B36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6B4E19-38CE-4EEB-83C1-2EDBD06AE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8BE99-F91B-4B0D-9B1E-2D4C7B67C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06D2E0-E742-4657-B5EE-F86A1891A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B80CCF-8C86-49F5-AB36-8C792C4BE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D831CE-5A50-415C-A5DB-654ED38BB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1F0D-AAB3-4B10-8EB9-E913049A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C60227-9CBC-4353-8111-6EC838AB5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B25A3D-F81E-4878-B594-7D4AE835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773136-60A2-40E5-A6FC-5DB5216F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CBD8DA-5AB9-4B96-9E5B-A0BD57E7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1106BD-2818-40A3-A986-1794AF147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BE14B8-285D-4EE0-8A5B-AA97B5904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BE0C1D-6BC0-4F3C-A32C-4355B53B1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52BF2-7B29-442D-93AA-95F8369101BD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85561-8E1A-4FAF-A14A-1504A43D242C}" type="slidenum">
              <a:rPr b="1" lang="en-GB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92BBA-8547-454A-A4F6-7AF9B8D8D63D}" type="slidenum"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7E0BF-2E9C-45C4-B871-3E1285EAE990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BD59B-573A-4DBA-B750-E72CC9CD7074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936D6-0ED6-4FD4-AE83-942CC90AA49B}" type="slidenum">
              <a:rPr b="1" lang="en-GB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2F75E-FD57-423F-8F87-EECCF93122A7}" type="slidenum"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7587F-5623-41B7-9475-20F24231888B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uropa.eu.int/mariecurie-actions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www.medicine.tcd.ie/pharmacology_therapeutics/marie_curie_training_programme/index.php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uore.iss.it/eurocis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143080" y="2714760"/>
            <a:ext cx="647712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bddc3"/>
                </a:solidFill>
                <a:latin typeface="Tw Cen MT"/>
              </a:rPr>
              <a:t>KEY FACTS REGARDING CVD TREATMENTS:</a:t>
            </a:r>
            <a:br>
              <a:rPr sz="4000"/>
            </a:br>
            <a:r>
              <a:rPr b="0" lang="en-GB" sz="4000" spc="-1" strike="noStrike">
                <a:solidFill>
                  <a:srgbClr val="ebddc3"/>
                </a:solidFill>
                <a:latin typeface="Tw Cen MT"/>
              </a:rPr>
              <a:t>USING THE EVIDENCE BASE IN MODELLING</a:t>
            </a:r>
            <a:endParaRPr b="0" lang="en-US" sz="40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1835280" y="47242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artin O’Flah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imon Capew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ivision of Public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University of Liverp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6"/>
          <p:cNvGrpSpPr/>
          <p:nvPr/>
        </p:nvGrpSpPr>
        <p:grpSpPr>
          <a:xfrm>
            <a:off x="3149640" y="216000"/>
            <a:ext cx="5599080" cy="866520"/>
            <a:chOff x="3149640" y="216000"/>
            <a:chExt cx="5599080" cy="866520"/>
          </a:xfrm>
        </p:grpSpPr>
        <p:pic>
          <p:nvPicPr>
            <p:cNvPr id="360" name="Picture 7" descr="Marie Curies Actions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396200" y="216000"/>
              <a:ext cx="1352520" cy="86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Picture 8" descr="Logo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635280" y="274680"/>
              <a:ext cx="3648240" cy="3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Rectangle 9"/>
            <p:cNvSpPr/>
            <p:nvPr/>
          </p:nvSpPr>
          <p:spPr>
            <a:xfrm>
              <a:off x="3149640" y="647640"/>
              <a:ext cx="391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e9d333"/>
                  </a:solidFill>
                  <a:latin typeface="Calibri"/>
                  <a:ea typeface="Arial"/>
                </a:rPr>
                <a:t>Cardiovascular Epidemiology and Epidemiological Modell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Chronic Angin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Progressive occlusion by an atherosclerotic plaque, causing myocardial ischemia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Definition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Clinical definition based on anginal symptoms, pattern and duration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Several validated questionnaires (Rose questionnaire)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Therapy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w Cen MT"/>
              </a:rPr>
              <a:t>Avoid ischemic events (secondary prevention)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w Cen MT"/>
              </a:rPr>
              <a:t>Symptom relief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w Cen MT"/>
              </a:rPr>
              <a:t>Efficacy outcomes:</a:t>
            </a:r>
            <a:r>
              <a:rPr b="0" lang="en-GB" sz="16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w Cen MT"/>
              </a:rPr>
              <a:t>Rates of major cardiovascular events: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Death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AMI/UA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Symptoms and Quality of Life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w Cen MT"/>
              </a:rPr>
              <a:t>Safety outcomes:</a:t>
            </a:r>
            <a:r>
              <a:rPr b="0" lang="en-GB" sz="16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Rates of major bleeding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Secondary Prevention in CVD patient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Who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Every patient with Clinical CHD (Survivors of ACS, Chronic Angina, CHD related heart failure and) and Strok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spirin/Clopidogre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nticoagulant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CEI/ARIIB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Beta blockers (stroke: may not be indicated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Statin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BP reduc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Smoking cess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Rehabilit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CAB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Compared to Medical treatment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Has an effect on mortality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Benefit changes with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Extent of coronary artery involvemen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Ventricular functio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33" name="Picture 2" descr=""/>
          <p:cNvPicPr/>
          <p:nvPr/>
        </p:nvPicPr>
        <p:blipFill>
          <a:blip r:embed="rId1"/>
          <a:stretch/>
        </p:blipFill>
        <p:spPr>
          <a:xfrm>
            <a:off x="4786200" y="1571760"/>
            <a:ext cx="3695760" cy="231444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5"/>
          <p:cNvSpPr/>
          <p:nvPr/>
        </p:nvSpPr>
        <p:spPr>
          <a:xfrm>
            <a:off x="6000840" y="4071960"/>
            <a:ext cx="4572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Yusuf et al. Lancet 1994; 344: 563-70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PCI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Compared to Medical treatme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It has no mortality benefit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It produces symptom relief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37" name="Picture 3" descr=""/>
          <p:cNvPicPr/>
          <p:nvPr/>
        </p:nvPicPr>
        <p:blipFill>
          <a:blip r:embed="rId1"/>
          <a:stretch/>
        </p:blipFill>
        <p:spPr>
          <a:xfrm>
            <a:off x="4786200" y="2071800"/>
            <a:ext cx="3591000" cy="2400120"/>
          </a:xfrm>
          <a:prstGeom prst="rect">
            <a:avLst/>
          </a:prstGeom>
          <a:ln w="0">
            <a:noFill/>
          </a:ln>
        </p:spPr>
      </p:pic>
      <p:sp>
        <p:nvSpPr>
          <p:cNvPr id="438" name="Rectangle 6"/>
          <p:cNvSpPr/>
          <p:nvPr/>
        </p:nvSpPr>
        <p:spPr>
          <a:xfrm>
            <a:off x="5357880" y="464328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200" spc="-1" strike="noStrike">
                <a:solidFill>
                  <a:srgbClr val="000000"/>
                </a:solidFill>
                <a:latin typeface="Arial"/>
              </a:rPr>
              <a:t>Bucher et al. BMJ 2000; 321: 73-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Drug eluting sten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40" name="Picture 2" descr="http://content.nejm.org/content/vol356/issue15/images/large/05f2.jpeg"/>
          <p:cNvPicPr/>
          <p:nvPr/>
        </p:nvPicPr>
        <p:blipFill>
          <a:blip r:embed="rId1"/>
          <a:stretch/>
        </p:blipFill>
        <p:spPr>
          <a:xfrm>
            <a:off x="1319040" y="1428840"/>
            <a:ext cx="6505920" cy="4722840"/>
          </a:xfrm>
          <a:prstGeom prst="rect">
            <a:avLst/>
          </a:prstGeom>
          <a:ln w="0">
            <a:noFill/>
          </a:ln>
        </p:spPr>
      </p:pic>
      <p:sp>
        <p:nvSpPr>
          <p:cNvPr id="441" name="Rectangle 4"/>
          <p:cNvSpPr/>
          <p:nvPr/>
        </p:nvSpPr>
        <p:spPr>
          <a:xfrm>
            <a:off x="5006520" y="6286680"/>
            <a:ext cx="2364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Boden et al. NEJM 356 (15): 150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Heart Failur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Progressive loss of the pump function of the hear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Definition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Clinical syndrome + a measure of ventricular function. Some biomarkers are beeing increasingly used in clinical practice. 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w Cen MT"/>
              </a:rPr>
              <a:t>Therapy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Decrease mortality from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3" marL="1343880" indent="-223920">
              <a:lnSpc>
                <a:spcPct val="8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Progressive heart failure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3" marL="1343880" indent="-223920">
              <a:lnSpc>
                <a:spcPct val="8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Sudden death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Symptom relief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Resource use control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w Cen MT"/>
              </a:rPr>
              <a:t>Efficacy outcomes:</a:t>
            </a:r>
            <a:r>
              <a:rPr b="0" lang="en-GB" sz="22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Rates of major cardiovascular events: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Death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Symptoms and Quality of Life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Proxy measures of ventricular function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Available treatments for Heart Failure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Rehab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ACEI/ARII b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Aspirin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Beta-blocker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Implantable Cardio Defibrillator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Spironolacton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Anticoagulants 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Amiodarone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Statins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Statins in Heart Failur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Current Debate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Physiopathological thinking suggests a rol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Role of statins in PostMI and C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Observational evidence suggest an effec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Clinical trials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CORONA : no effec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GISSI: expecting result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Statins in heart failur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49" name="Picture 4" descr="Image"/>
          <p:cNvPicPr/>
          <p:nvPr/>
        </p:nvPicPr>
        <p:blipFill>
          <a:blip r:embed="rId1"/>
          <a:stretch/>
        </p:blipFill>
        <p:spPr>
          <a:xfrm>
            <a:off x="142920" y="1424160"/>
            <a:ext cx="8429760" cy="500508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5"/>
          <p:cNvSpPr/>
          <p:nvPr/>
        </p:nvSpPr>
        <p:spPr>
          <a:xfrm>
            <a:off x="928800" y="1357200"/>
            <a:ext cx="3000240" cy="57168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CHD re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6"/>
          <p:cNvSpPr/>
          <p:nvPr/>
        </p:nvSpPr>
        <p:spPr>
          <a:xfrm>
            <a:off x="5214960" y="1357200"/>
            <a:ext cx="3143160" cy="57168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Non CHD re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6"/>
          <p:cNvSpPr/>
          <p:nvPr/>
        </p:nvSpPr>
        <p:spPr>
          <a:xfrm>
            <a:off x="5805000" y="6433200"/>
            <a:ext cx="271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 Am Coll Cardiol. 2008 Jan 29;51(4):415-26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7"/>
          <p:cNvSpPr/>
          <p:nvPr/>
        </p:nvSpPr>
        <p:spPr>
          <a:xfrm>
            <a:off x="71280" y="1357200"/>
            <a:ext cx="428760" cy="4287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8"/>
          <p:cNvSpPr/>
          <p:nvPr/>
        </p:nvSpPr>
        <p:spPr>
          <a:xfrm>
            <a:off x="4286160" y="1357200"/>
            <a:ext cx="428760" cy="4287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Key issues when modelling intervention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Mortality benefit or Quality of Life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Which patients are eligible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Current guidelin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A Simplified model of the Clinical phase of Atherosclerosi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grpSp>
        <p:nvGrpSpPr>
          <p:cNvPr id="364" name="Oval 3"/>
          <p:cNvGrpSpPr/>
          <p:nvPr/>
        </p:nvGrpSpPr>
        <p:grpSpPr>
          <a:xfrm>
            <a:off x="1085760" y="2395440"/>
            <a:ext cx="962280" cy="3249720"/>
            <a:chOff x="1085760" y="2395440"/>
            <a:chExt cx="962280" cy="3249720"/>
          </a:xfrm>
        </p:grpSpPr>
        <p:pic>
          <p:nvPicPr>
            <p:cNvPr id="365" name="Oval 3" descr=""/>
            <p:cNvPicPr/>
            <p:nvPr/>
          </p:nvPicPr>
          <p:blipFill>
            <a:blip r:embed="rId1"/>
            <a:stretch/>
          </p:blipFill>
          <p:spPr>
            <a:xfrm>
              <a:off x="1085760" y="2395440"/>
              <a:ext cx="962280" cy="324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1268280" y="2889360"/>
              <a:ext cx="606600" cy="22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w Cen MT"/>
                </a:rPr>
                <a:t>At ris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Oval 4"/>
          <p:cNvSpPr/>
          <p:nvPr/>
        </p:nvSpPr>
        <p:spPr>
          <a:xfrm>
            <a:off x="4286160" y="1857240"/>
            <a:ext cx="714600" cy="714600"/>
          </a:xfrm>
          <a:prstGeom prst="ellipse">
            <a:avLst/>
          </a:prstGeom>
          <a:solidFill>
            <a:srgbClr val="000000"/>
          </a:solidFill>
          <a:ln w="47520">
            <a:solidFill>
              <a:srgbClr val="ffffff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w Cen MT"/>
              </a:rPr>
              <a:t>Sudden Dea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6"/>
          <p:cNvSpPr/>
          <p:nvPr/>
        </p:nvSpPr>
        <p:spPr>
          <a:xfrm>
            <a:off x="2786040" y="5000760"/>
            <a:ext cx="714240" cy="714240"/>
          </a:xfrm>
          <a:prstGeom prst="ellipse">
            <a:avLst/>
          </a:prstGeom>
          <a:solidFill>
            <a:srgbClr val="a5ab81"/>
          </a:solidFill>
          <a:ln w="10080">
            <a:solidFill>
              <a:srgbClr val="a5ab81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w Cen MT"/>
              </a:rPr>
              <a:t>Chronic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w Cen MT"/>
              </a:rPr>
              <a:t>Angi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8"/>
          <p:cNvSpPr/>
          <p:nvPr/>
        </p:nvSpPr>
        <p:spPr>
          <a:xfrm>
            <a:off x="2643120" y="3857760"/>
            <a:ext cx="928800" cy="714240"/>
          </a:xfrm>
          <a:prstGeom prst="ellipse">
            <a:avLst/>
          </a:prstGeom>
          <a:solidFill>
            <a:srgbClr val="efcdc1"/>
          </a:solidFill>
          <a:ln w="10080">
            <a:solidFill>
              <a:srgbClr val="dd8047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w Cen MT"/>
              </a:rPr>
              <a:t>Unstable Angi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7"/>
          <p:cNvSpPr/>
          <p:nvPr/>
        </p:nvSpPr>
        <p:spPr>
          <a:xfrm>
            <a:off x="2643120" y="3289320"/>
            <a:ext cx="928800" cy="714240"/>
          </a:xfrm>
          <a:prstGeom prst="ellipse">
            <a:avLst/>
          </a:prstGeom>
          <a:solidFill>
            <a:srgbClr val="dd8047"/>
          </a:solidFill>
          <a:ln w="47520">
            <a:solidFill>
              <a:srgbClr val="ffffff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w Cen MT"/>
              </a:rPr>
              <a:t>Acute Myocardial Infar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Oval 9"/>
          <p:cNvGrpSpPr/>
          <p:nvPr/>
        </p:nvGrpSpPr>
        <p:grpSpPr>
          <a:xfrm>
            <a:off x="5516640" y="3468600"/>
            <a:ext cx="817560" cy="817560"/>
            <a:chOff x="5516640" y="3468600"/>
            <a:chExt cx="817560" cy="817560"/>
          </a:xfrm>
        </p:grpSpPr>
        <p:pic>
          <p:nvPicPr>
            <p:cNvPr id="372" name="Oval 9" descr=""/>
            <p:cNvPicPr/>
            <p:nvPr/>
          </p:nvPicPr>
          <p:blipFill>
            <a:blip r:embed="rId2"/>
            <a:stretch/>
          </p:blipFill>
          <p:spPr>
            <a:xfrm>
              <a:off x="5516640" y="3468600"/>
              <a:ext cx="81756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5676840" y="3605040"/>
              <a:ext cx="504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Tw Cen MT"/>
                </a:rPr>
                <a:t>Heart Failu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Oval 10"/>
          <p:cNvGrpSpPr/>
          <p:nvPr/>
        </p:nvGrpSpPr>
        <p:grpSpPr>
          <a:xfrm>
            <a:off x="6877080" y="3402000"/>
            <a:ext cx="816120" cy="816120"/>
            <a:chOff x="6877080" y="3402000"/>
            <a:chExt cx="816120" cy="816120"/>
          </a:xfrm>
        </p:grpSpPr>
        <p:pic>
          <p:nvPicPr>
            <p:cNvPr id="375" name="Oval 10" descr=""/>
            <p:cNvPicPr/>
            <p:nvPr/>
          </p:nvPicPr>
          <p:blipFill>
            <a:blip r:embed="rId3"/>
            <a:stretch/>
          </p:blipFill>
          <p:spPr>
            <a:xfrm>
              <a:off x="6877080" y="3402000"/>
              <a:ext cx="816120" cy="81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7034040" y="3533760"/>
              <a:ext cx="50508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Tw Cen MT"/>
                </a:rPr>
                <a:t>Deat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77" name="Curved Connector 12"/>
          <p:cNvCxnSpPr/>
          <p:nvPr/>
        </p:nvCxnSpPr>
        <p:spPr>
          <a:xfrm flipV="1">
            <a:off x="2000160" y="2214000"/>
            <a:ext cx="2286720" cy="1786680"/>
          </a:xfrm>
          <a:prstGeom prst="curvedConnector5">
            <a:avLst>
              <a:gd name="adj1" fmla="val 11651"/>
              <a:gd name="adj2" fmla="val 50000"/>
              <a:gd name="adj3" fmla="val 11651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78" name="Curved Connector 16"/>
          <p:cNvCxnSpPr/>
          <p:nvPr/>
        </p:nvCxnSpPr>
        <p:spPr>
          <a:xfrm flipV="1">
            <a:off x="2000160" y="3965040"/>
            <a:ext cx="572400" cy="36000"/>
          </a:xfrm>
          <a:prstGeom prst="curvedConnector5">
            <a:avLst>
              <a:gd name="adj1" fmla="val 49968"/>
              <a:gd name="adj2" fmla="val 49494"/>
              <a:gd name="adj3" fmla="val 49968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79" name="Curved Connector 20"/>
          <p:cNvCxnSpPr/>
          <p:nvPr/>
        </p:nvCxnSpPr>
        <p:spPr>
          <a:xfrm>
            <a:off x="1999800" y="4000680"/>
            <a:ext cx="786600" cy="1357920"/>
          </a:xfrm>
          <a:prstGeom prst="curvedConnector5">
            <a:avLst>
              <a:gd name="adj1" fmla="val 50000"/>
              <a:gd name="adj2" fmla="val 49986"/>
              <a:gd name="adj3" fmla="val 50000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0" name="Curved Connector 22"/>
          <p:cNvCxnSpPr>
            <a:stCxn id="368" idx="0"/>
            <a:endCxn id="381" idx="4"/>
          </p:cNvCxnSpPr>
          <p:nvPr/>
        </p:nvCxnSpPr>
        <p:spPr>
          <a:xfrm flipV="1" rot="16200000">
            <a:off x="2981520" y="4839120"/>
            <a:ext cx="286560" cy="37080"/>
          </a:xfrm>
          <a:prstGeom prst="curvedConnector5">
            <a:avLst>
              <a:gd name="adj1" fmla="val 49937"/>
              <a:gd name="adj2" fmla="val 50000"/>
              <a:gd name="adj3" fmla="val 49937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2" name="Shape 24"/>
          <p:cNvCxnSpPr>
            <a:stCxn id="368" idx="6"/>
          </p:cNvCxnSpPr>
          <p:nvPr/>
        </p:nvCxnSpPr>
        <p:spPr>
          <a:xfrm flipV="1">
            <a:off x="3499920" y="4214160"/>
            <a:ext cx="2429640" cy="1143720"/>
          </a:xfrm>
          <a:prstGeom prst="curvedConnector2">
            <a:avLst/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3" name="Shape 26"/>
          <p:cNvCxnSpPr>
            <a:stCxn id="368" idx="6"/>
          </p:cNvCxnSpPr>
          <p:nvPr/>
        </p:nvCxnSpPr>
        <p:spPr>
          <a:xfrm flipV="1">
            <a:off x="3500280" y="4142880"/>
            <a:ext cx="3787200" cy="1215360"/>
          </a:xfrm>
          <a:prstGeom prst="curvedConnector2">
            <a:avLst/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4" name="Shape 28"/>
          <p:cNvCxnSpPr>
            <a:stCxn id="367" idx="6"/>
          </p:cNvCxnSpPr>
          <p:nvPr/>
        </p:nvCxnSpPr>
        <p:spPr>
          <a:xfrm>
            <a:off x="5000760" y="2214360"/>
            <a:ext cx="2286720" cy="1215000"/>
          </a:xfrm>
          <a:prstGeom prst="curvedConnector2">
            <a:avLst/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5" name="Shape 30"/>
          <p:cNvCxnSpPr/>
          <p:nvPr/>
        </p:nvCxnSpPr>
        <p:spPr>
          <a:xfrm flipV="1">
            <a:off x="3642840" y="3428280"/>
            <a:ext cx="3644280" cy="500760"/>
          </a:xfrm>
          <a:prstGeom prst="curvedConnector5">
            <a:avLst>
              <a:gd name="adj1" fmla="val 17121"/>
              <a:gd name="adj2" fmla="val 94244"/>
              <a:gd name="adj3" fmla="val 17121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sp>
        <p:nvSpPr>
          <p:cNvPr id="386" name="Oval 33"/>
          <p:cNvSpPr/>
          <p:nvPr/>
        </p:nvSpPr>
        <p:spPr>
          <a:xfrm>
            <a:off x="4286160" y="3646440"/>
            <a:ext cx="857520" cy="714600"/>
          </a:xfrm>
          <a:prstGeom prst="ellipse">
            <a:avLst/>
          </a:prstGeom>
          <a:solidFill>
            <a:srgbClr val="d8b25c"/>
          </a:solidFill>
          <a:ln w="10080">
            <a:solidFill>
              <a:srgbClr val="d8b25c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w Cen MT"/>
              </a:rPr>
              <a:t>MI Surviv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7" name="Curved Connector 35"/>
          <p:cNvCxnSpPr>
            <a:stCxn id="381" idx="6"/>
            <a:endCxn id="386" idx="2"/>
          </p:cNvCxnSpPr>
          <p:nvPr/>
        </p:nvCxnSpPr>
        <p:spPr>
          <a:xfrm>
            <a:off x="3643200" y="3965400"/>
            <a:ext cx="643320" cy="38880"/>
          </a:xfrm>
          <a:prstGeom prst="curvedConnector5">
            <a:avLst>
              <a:gd name="adj1" fmla="val 50000"/>
              <a:gd name="adj2" fmla="val 49532"/>
              <a:gd name="adj3" fmla="val 50000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8" name="Curved Connector 37"/>
          <p:cNvCxnSpPr>
            <a:stCxn id="386" idx="6"/>
          </p:cNvCxnSpPr>
          <p:nvPr/>
        </p:nvCxnSpPr>
        <p:spPr>
          <a:xfrm flipV="1">
            <a:off x="5143680" y="3857040"/>
            <a:ext cx="429120" cy="146520"/>
          </a:xfrm>
          <a:prstGeom prst="curvedConnector5">
            <a:avLst>
              <a:gd name="adj1" fmla="val 49958"/>
              <a:gd name="adj2" fmla="val 50000"/>
              <a:gd name="adj3" fmla="val 49958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9" name="Curved Connector 39"/>
          <p:cNvCxnSpPr>
            <a:stCxn id="386" idx="0"/>
          </p:cNvCxnSpPr>
          <p:nvPr/>
        </p:nvCxnSpPr>
        <p:spPr>
          <a:xfrm flipH="1" flipV="1" rot="5400000">
            <a:off x="5891760" y="2251440"/>
            <a:ext cx="218160" cy="2572560"/>
          </a:xfrm>
          <a:prstGeom prst="curvedConnector5">
            <a:avLst>
              <a:gd name="adj1" fmla="val 204958"/>
              <a:gd name="adj2" fmla="val 49993"/>
              <a:gd name="adj3" fmla="val 204958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90" name="Curved Connector 41"/>
          <p:cNvCxnSpPr/>
          <p:nvPr/>
        </p:nvCxnSpPr>
        <p:spPr>
          <a:xfrm flipV="1">
            <a:off x="6286320" y="3785400"/>
            <a:ext cx="643320" cy="72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sp>
        <p:nvSpPr>
          <p:cNvPr id="381" name="Oval 42"/>
          <p:cNvSpPr/>
          <p:nvPr/>
        </p:nvSpPr>
        <p:spPr>
          <a:xfrm>
            <a:off x="2571840" y="3214800"/>
            <a:ext cx="1071360" cy="1500120"/>
          </a:xfrm>
          <a:prstGeom prst="ellipse">
            <a:avLst/>
          </a:prstGeom>
          <a:solidFill>
            <a:srgbClr val="de3f2e">
              <a:alpha val="38000"/>
            </a:srgbClr>
          </a:solidFill>
          <a:ln w="19080">
            <a:solidFill>
              <a:srgbClr val="c0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Oval 46"/>
          <p:cNvGrpSpPr/>
          <p:nvPr/>
        </p:nvGrpSpPr>
        <p:grpSpPr>
          <a:xfrm>
            <a:off x="3657600" y="5967360"/>
            <a:ext cx="822240" cy="824040"/>
            <a:chOff x="3657600" y="5967360"/>
            <a:chExt cx="822240" cy="824040"/>
          </a:xfrm>
        </p:grpSpPr>
        <p:pic>
          <p:nvPicPr>
            <p:cNvPr id="392" name="Oval 46" descr=""/>
            <p:cNvPicPr/>
            <p:nvPr/>
          </p:nvPicPr>
          <p:blipFill>
            <a:blip r:embed="rId4"/>
            <a:stretch/>
          </p:blipFill>
          <p:spPr>
            <a:xfrm>
              <a:off x="3657600" y="5967360"/>
              <a:ext cx="822240" cy="8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3819600" y="6105600"/>
              <a:ext cx="50472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Tw Cen MT"/>
                </a:rPr>
                <a:t>Strok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94" name="Curved Connector 47"/>
          <p:cNvCxnSpPr/>
          <p:nvPr/>
        </p:nvCxnSpPr>
        <p:spPr>
          <a:xfrm>
            <a:off x="1999800" y="4000680"/>
            <a:ext cx="1715400" cy="2358000"/>
          </a:xfrm>
          <a:prstGeom prst="curvedConnector5">
            <a:avLst>
              <a:gd name="adj1" fmla="val 10537"/>
              <a:gd name="adj2" fmla="val 49992"/>
              <a:gd name="adj3" fmla="val 10537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95" name="Curved Connector 52"/>
          <p:cNvCxnSpPr/>
          <p:nvPr/>
        </p:nvCxnSpPr>
        <p:spPr>
          <a:xfrm flipV="1">
            <a:off x="4429080" y="4142880"/>
            <a:ext cx="2858400" cy="2215440"/>
          </a:xfrm>
          <a:prstGeom prst="curvedConnector2">
            <a:avLst/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96" name="Curved Connector 55"/>
          <p:cNvCxnSpPr>
            <a:endCxn id="381" idx="4"/>
          </p:cNvCxnSpPr>
          <p:nvPr/>
        </p:nvCxnSpPr>
        <p:spPr>
          <a:xfrm flipV="1" rot="16200000">
            <a:off x="2945880" y="4874760"/>
            <a:ext cx="1286640" cy="965880"/>
          </a:xfrm>
          <a:prstGeom prst="curvedConnector5">
            <a:avLst>
              <a:gd name="adj1" fmla="val 81108"/>
              <a:gd name="adj2" fmla="val 50000"/>
              <a:gd name="adj3" fmla="val 81108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Efficacy vs effectiveness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RCT and SR usually better than real practic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Uptake: those not receiving the drug do not benefit from it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Many interventions acting on the same individuals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Estimation of a common effect: The Mant-Hicks approach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Object 2"/>
              <p:cNvSpPr txBox="1"/>
              <p:nvPr/>
            </p:nvSpPr>
            <p:spPr>
              <a:xfrm>
                <a:off x="1714680" y="4929120"/>
                <a:ext cx="550044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monRRR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RRa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RRb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RR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Key issues when modelling intervention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Summar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Patients group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Strategi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High quality information on efficac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MI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PCI vs thrombolysi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Chronic Angin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CABG vs PCI vs Medical Managemen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Heart Failur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Statin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Key facts in modelling intervention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Key patients group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Acute Coronary Syndrom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Stable Angin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Heart Failur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Strok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Peripheral Arterial diseas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Strategies to Manage CVD Diseas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Aim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Prevent clinical diseas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Postpone disease progress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Decrease mortalit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Increase Quality of Lif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Acute Coronary Syndrom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Complex situation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Definitions keep changing for clinical purposes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Epidemiological definitions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w Cen MT"/>
              </a:rPr>
              <a:t>Circulation. 2003 Nov 18;108(20):2543-9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w Cen MT"/>
              </a:rPr>
              <a:t>EuroCISS: </a:t>
            </a:r>
            <a:r>
              <a:rPr b="0" lang="fr-FR" sz="18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www.cuore.iss.it/eurocis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Groups (Clinical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Acute Myocardial infarctio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STEMI (ST elevation Myocardial Infarction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NSTEMI (Non ST elevation Myocardial infarctio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Unstable angin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Acute myocardial infarc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Atherosclerotic plaque rupture leading to a sudden occlusion of a coronary artery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Myocardial muscle loss.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w Cen MT"/>
              </a:rPr>
              <a:t>Host of complications: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Electrical: arryhtmias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Mechanical: heart failure and cardiogenic shoc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Therapy: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Type of AMI (STEMI vs NSTEMI) is critical to guide decisions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Decrease size of infarct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Treat complications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Stabilize atherosclerotic plaque to prevent further ischemic events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w Cen MT"/>
              </a:rPr>
              <a:t>Efficacy outcomes:</a:t>
            </a:r>
            <a:r>
              <a:rPr b="0" lang="en-GB" sz="15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Rates of major cardiovascular events: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Death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Recurrent AMI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Refractory ischaemia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Stroke. 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w Cen MT"/>
              </a:rPr>
              <a:t>Safety outcomes:</a:t>
            </a:r>
            <a:r>
              <a:rPr b="0" lang="en-GB" sz="15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Rates of major bleeding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06" name="Picture 1" descr="Beneficial"/>
          <p:cNvPicPr/>
          <p:nvPr/>
        </p:nvPicPr>
        <p:blipFill>
          <a:blip r:embed="rId1"/>
          <a:stretch/>
        </p:blipFill>
        <p:spPr>
          <a:xfrm>
            <a:off x="0" y="0"/>
            <a:ext cx="228600" cy="1522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" descr="Likely to be beneficial"/>
          <p:cNvPicPr/>
          <p:nvPr/>
        </p:nvPicPr>
        <p:blipFill>
          <a:blip r:embed="rId2"/>
          <a:stretch/>
        </p:blipFill>
        <p:spPr>
          <a:xfrm>
            <a:off x="0" y="0"/>
            <a:ext cx="228600" cy="1522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3" descr="Trade off between benefits and harms"/>
          <p:cNvPicPr/>
          <p:nvPr/>
        </p:nvPicPr>
        <p:blipFill>
          <a:blip r:embed="rId3"/>
          <a:stretch/>
        </p:blipFill>
        <p:spPr>
          <a:xfrm>
            <a:off x="0" y="0"/>
            <a:ext cx="228600" cy="1522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4" descr="Unlikely to be beneficial"/>
          <p:cNvPicPr/>
          <p:nvPr/>
        </p:nvPicPr>
        <p:blipFill>
          <a:blip r:embed="rId4"/>
          <a:stretch/>
        </p:blipFill>
        <p:spPr>
          <a:xfrm>
            <a:off x="0" y="0"/>
            <a:ext cx="228600" cy="1522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5" descr="Likely to be ineffective or harmful"/>
          <p:cNvPicPr/>
          <p:nvPr/>
        </p:nvPicPr>
        <p:blipFill>
          <a:blip r:embed="rId5"/>
          <a:stretch/>
        </p:blipFill>
        <p:spPr>
          <a:xfrm>
            <a:off x="0" y="0"/>
            <a:ext cx="228600" cy="152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1" name=""/>
          <p:cNvGraphicFramePr/>
          <p:nvPr/>
        </p:nvGraphicFramePr>
        <p:xfrm>
          <a:off x="785880" y="1285920"/>
          <a:ext cx="7500960" cy="3844800"/>
        </p:xfrm>
        <a:graphic>
          <a:graphicData uri="http://schemas.openxmlformats.org/drawingml/2006/table">
            <a:tbl>
              <a:tblPr/>
              <a:tblGrid>
                <a:gridCol w="3166920"/>
                <a:gridCol w="2166840"/>
                <a:gridCol w="2167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Interven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Effect on mort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Type  of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ngiotensin Converting Enzyme inhibi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spir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Block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TEMI: Primary percutaneous coronary intervention (PC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TEMI: Thromboly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  <p:sp>
        <p:nvSpPr>
          <p:cNvPr id="412" name="Down Arrow 12"/>
          <p:cNvSpPr/>
          <p:nvPr/>
        </p:nvSpPr>
        <p:spPr>
          <a:xfrm>
            <a:off x="4429080" y="171468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Down Arrow 13"/>
          <p:cNvSpPr/>
          <p:nvPr/>
        </p:nvSpPr>
        <p:spPr>
          <a:xfrm>
            <a:off x="4429080" y="235260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1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Down Arrow 14"/>
          <p:cNvSpPr/>
          <p:nvPr/>
        </p:nvSpPr>
        <p:spPr>
          <a:xfrm>
            <a:off x="4429080" y="300024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Down Arrow 15"/>
          <p:cNvSpPr/>
          <p:nvPr/>
        </p:nvSpPr>
        <p:spPr>
          <a:xfrm>
            <a:off x="4429080" y="378612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3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Down Arrow 16"/>
          <p:cNvSpPr/>
          <p:nvPr/>
        </p:nvSpPr>
        <p:spPr>
          <a:xfrm>
            <a:off x="4429080" y="457200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3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17"/>
          <p:cNvSpPr/>
          <p:nvPr/>
        </p:nvSpPr>
        <p:spPr>
          <a:xfrm>
            <a:off x="1785960" y="5572080"/>
            <a:ext cx="5929200" cy="916920"/>
          </a:xfrm>
          <a:prstGeom prst="rect">
            <a:avLst/>
          </a:prstGeom>
          <a:gradFill rotWithShape="0">
            <a:gsLst>
              <a:gs pos="0">
                <a:srgbClr val="b7d3ed"/>
              </a:gs>
              <a:gs pos="100000">
                <a:srgbClr val="e9f0f8"/>
              </a:gs>
            </a:gsLst>
            <a:lin ang="5400000"/>
          </a:gradFill>
          <a:ln w="9360">
            <a:solidFill>
              <a:srgbClr val="8fb2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going deb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CI vs.  thrombo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Unstable Angin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Atherosclerotic plaque unstable, producing inflammatory and thrombotic phenomena causing myocardial ischemia but not myocardial muscle death.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Definition: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w Cen MT"/>
              </a:rPr>
              <a:t>New  symptoms</a:t>
            </a:r>
            <a:endParaRPr b="0" lang="en-US" sz="9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w Cen MT"/>
              </a:rPr>
              <a:t>Recent change in the stable anginal symptoms pattern</a:t>
            </a:r>
            <a:endParaRPr b="0" lang="en-US" sz="9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w Cen MT"/>
              </a:rPr>
              <a:t>No evidence of myocardial necrosis. </a:t>
            </a:r>
            <a:endParaRPr b="0" lang="en-US" sz="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Therapy: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Avoid progression to AMI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Stabilize atherosclerotic plaque to avoid progression of ischemia (eg: to AMI)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Revascularization strategies based on risk of future events and anatomy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w Cen MT"/>
              </a:rPr>
              <a:t>Efficacy outcomes:</a:t>
            </a:r>
            <a:r>
              <a:rPr b="0" lang="en-GB" sz="15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Rates of major cardiovascular events: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Death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AMI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Refractory ischaemia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Re admission to hospital 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w Cen MT"/>
              </a:rPr>
              <a:t>Safety outcomes:</a:t>
            </a:r>
            <a:r>
              <a:rPr b="0" lang="en-GB" sz="15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Rates of major bleeding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714240" y="1714680"/>
          <a:ext cx="7500960" cy="4036680"/>
        </p:xfrm>
        <a:graphic>
          <a:graphicData uri="http://schemas.openxmlformats.org/drawingml/2006/table">
            <a:tbl>
              <a:tblPr/>
              <a:tblGrid>
                <a:gridCol w="3167280"/>
                <a:gridCol w="2166840"/>
                <a:gridCol w="21668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Interven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Effect on mort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Type  of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spirin and Hepar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gpIIb/IIIa inhibitors/Clopidogr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Block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Percutaneous coronary intervention (PC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AB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  <p:sp>
        <p:nvSpPr>
          <p:cNvPr id="422" name="Down Arrow 4"/>
          <p:cNvSpPr/>
          <p:nvPr/>
        </p:nvSpPr>
        <p:spPr>
          <a:xfrm>
            <a:off x="4429080" y="214308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3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Down Arrow 5"/>
          <p:cNvSpPr/>
          <p:nvPr/>
        </p:nvSpPr>
        <p:spPr>
          <a:xfrm>
            <a:off x="4429080" y="292428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Down Arrow 6"/>
          <p:cNvSpPr/>
          <p:nvPr/>
        </p:nvSpPr>
        <p:spPr>
          <a:xfrm>
            <a:off x="4429080" y="357192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3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Down Arrow 7"/>
          <p:cNvSpPr/>
          <p:nvPr/>
        </p:nvSpPr>
        <p:spPr>
          <a:xfrm>
            <a:off x="4429080" y="435780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3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Down Arrow 8"/>
          <p:cNvSpPr/>
          <p:nvPr/>
        </p:nvSpPr>
        <p:spPr>
          <a:xfrm>
            <a:off x="4429080" y="514368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4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14:26:09Z</dcterms:created>
  <dc:creator>Martin O'Flaherty</dc:creator>
  <dc:description/>
  <dc:language>en-US</dc:language>
  <cp:lastModifiedBy>Computing Services</cp:lastModifiedBy>
  <dcterms:modified xsi:type="dcterms:W3CDTF">2008-04-09T12:50:59Z</dcterms:modified>
  <cp:revision>40</cp:revision>
  <dc:subject/>
  <dc:title>Slide 1</dc:title>
</cp:coreProperties>
</file>